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41F8-D55B-4A18-8A62-A4A26B72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873-D6F7-4DD4-B660-39D62612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490-5CDA-4A19-9A2F-0ACC6F08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C27-4B78-4128-90D5-9ED336FA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F677-B5E3-4508-8560-B5F9C8DA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19B0-80C7-4966-910C-1521C2B6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2A1-4A26-40FB-AB1E-BA5CEEAC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6E5-6364-4160-9D0E-02B9ADED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964-65C5-4B27-8244-DEE74B94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C48-D9D5-4CBC-A54B-5B2F14E4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D53-43EB-4492-9B41-188DCE7E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6C8-8699-4301-B2FB-A7146B9C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2043-8377-4A52-8936-5FB929542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hyperlink" Target="http://rds.yahoo.com/_ylt=A9G_bDhtoX1LsT8AWIGJzbkF;_ylu=X3oDMTBpZTByOGFiBHBvcwMyBHNlYwNzcgR2dGlkAw--/SIG=1glh39tj7/EXP=1266610925/**http%3A//images.search.yahoo.com/images/view%3Fback=http%253A%252F%252Fimages.search.yahoo.com%252Fsearch%252Fimages%253Fp%253Dsmiley%252Bface%2526ei%253Dutf-8%2526fr%253Dsfp%26w=456%26h=474%26imgurl=farm4.static.flickr.com%252F3302%252F3445525688_72b616dce9.jpg%26rurl=http%253A%252F%252Fwww.flickr.com%252Fphotos%252Fauto123%252F3445525688%252F%26size=38k%26name=smiley%2Bface%26p=smiley%2Bface%26oid=df1cee462ef01330%26fr2=%26fusr=Auto123.com%26no=2%26tt=163763%26sigr=11g7kuoso%26sigi=11mcfci5c%26sigb=12a4u658l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oceanup.com/legacy/2008/12/01/miley-cyrus-cheerleader.jpg&amp;imgrefurl=http://oceanup.com/2008/12/miley-cyrus-baby-pictures.html&amp;h=587&amp;w=440&amp;sz=65&amp;tbnid=1iDPl7VPiH0lhM:&amp;tbnh=260&amp;tbnw=195&amp;prev=/images%3Fq%3Dmiley%2Bcyrus%2Bcheerleading&amp;hl=en&amp;usg=__2bIrCasGSWJ8tjIcY9lhPSdj880=&amp;ei=4TKES7DVLIGfnQeG2t3SAQ&amp;sa=X&amp;oi=image_result&amp;resnum=3&amp;ct=image&amp;ved=0CAkQ9QEwA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rds.yahoo.com/_ylt=A9G_bF5jOYRLeCYACa.JzbkF;_ylu=X3oDMTBpc2ozM2gzBHBvcwM0BHNlYwNzcgR2dGlkAw--/SIG=1i71i73ac/EXP=1267043043/**http%3A//images.search.yahoo.com/images/view%3Fback=http%253A%252F%252Fimages.search.yahoo.com%252Fsearch%252Fimages%253Fp%253Dmiley%252Bcyrus%252Bbig%252Bfish%2526ei%253Dutf-8%2526fr%253Dsfp%26w=489%26h=750%26imgurl=www.mymostwanted.com%252Fgallery%252Fdata%252F1362%252Fmiley-cyrus_dot_com_modeling-random1-004.jpg%26rurl=http%253A%252F%252Fwww.miley-word.fan-club.it%252Ft_rssimages.php%26size=89k%26name=miley%2Bcyrus%2Bdot%2B...%26p=miley%2Bcyrus%2Bbig%2Bfish%26oid=ce229ed31eb55d36%26fr2=%26no=4%26tt=1210110%26sigr=11hcpr276%26sigi=12jn3588m%26sigb=12j0m1c3q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opstarsplus.com/actress_mileycyrus.htm" TargetMode="External"/><Relationship Id="rId3" Type="http://schemas.openxmlformats.org/officeDocument/2006/relationships/hyperlink" Target="http://www.people.com/people/miley_cyrus" TargetMode="External"/><Relationship Id="rId4" Type="http://schemas.openxmlformats.org/officeDocument/2006/relationships/hyperlink" Target="http://www.sortmusic.com/_m/miley-cyrus-biography,len.html" TargetMode="External"/><Relationship Id="rId5" Type="http://schemas.openxmlformats.org/officeDocument/2006/relationships/hyperlink" Target="http://www.answers.com/topic/miley-cyrus#Early_life" TargetMode="External"/><Relationship Id="rId6" Type="http://schemas.openxmlformats.org/officeDocument/2006/relationships/hyperlink" Target="http://www.usatoday.com/life/music/news/2008-01-29-miley-cyrus-qna_N.htm" TargetMode="External"/><Relationship Id="rId7" Type="http://schemas.openxmlformats.org/officeDocument/2006/relationships/hyperlink" Target="http://wiki.answers.com/Q/Where_did_Miley_Cyrus_take_acting_lessons" TargetMode="External"/><Relationship Id="rId8" Type="http://schemas.openxmlformats.org/officeDocument/2006/relationships/hyperlink" Target="http://www.metrolyrics.com/miley-cyrus-biography.html" TargetMode="External"/><Relationship Id="rId9" Type="http://schemas.openxmlformats.org/officeDocument/2006/relationships/hyperlink" Target="http://www.aceshowbiz.com/news/view/00019700.html" TargetMode="External"/><Relationship Id="rId10" Type="http://schemas.openxmlformats.org/officeDocument/2006/relationships/hyperlink" Target="http://www.cduniverse.com/search/xx/music/pid/7222270/a/Hannah+Montana.htm" TargetMode="External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86200" y="1905120"/>
            <a:ext cx="4495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ley Cyru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miley cyrus myspace to cooolllll by jaderain99."/>
          <p:cNvPicPr/>
          <p:nvPr/>
        </p:nvPicPr>
        <p:blipFill>
          <a:blip r:embed="rId2"/>
          <a:stretch/>
        </p:blipFill>
        <p:spPr>
          <a:xfrm>
            <a:off x="457200" y="1371600"/>
            <a:ext cx="3171960" cy="4762440"/>
          </a:xfrm>
          <a:prstGeom prst="rect">
            <a:avLst/>
          </a:prstGeom>
          <a:ln w="63360">
            <a:solidFill>
              <a:srgbClr val="333399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4038480" y="3733920"/>
            <a:ext cx="389592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y: Emily Ov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5943600" cy="1560600"/>
          </a:xfrm>
          <a:prstGeom prst="rect">
            <a:avLst/>
          </a:prstGeom>
          <a:ln w="63360">
            <a:solidFill>
              <a:srgbClr val="cc00ff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6172200" cy="457200"/>
          </a:xfrm>
          <a:prstGeom prst="rect">
            <a:avLst/>
          </a:prstGeom>
          <a:noFill/>
          <a:ln w="63360">
            <a:solidFill>
              <a:srgbClr val="cc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ey was born in Nashville Tenness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3581280"/>
            <a:ext cx="6248160" cy="1371600"/>
          </a:xfrm>
          <a:prstGeom prst="rect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parents are Billy Ray Cyrus and Leticia. Her five siblings are Christopher, Braison Chance, Noah Lindsey, Brandy, and Tr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3505320"/>
            <a:ext cx="457200" cy="533160"/>
          </a:xfrm>
          <a:prstGeom prst="star5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1981080"/>
            <a:ext cx="380880" cy="381240"/>
          </a:xfrm>
          <a:prstGeom prst="star5">
            <a:avLst/>
          </a:prstGeom>
          <a:solidFill>
            <a:srgbClr val="000080"/>
          </a:solidFill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38280" y="228600"/>
            <a:ext cx="4343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arly Childhoo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" descr="Miley Cyrus"/>
          <p:cNvPicPr/>
          <p:nvPr/>
        </p:nvPicPr>
        <p:blipFill>
          <a:blip r:embed="rId3"/>
          <a:stretch/>
        </p:blipFill>
        <p:spPr>
          <a:xfrm>
            <a:off x="152280" y="1981080"/>
            <a:ext cx="2343240" cy="3124440"/>
          </a:xfrm>
          <a:prstGeom prst="rect">
            <a:avLst/>
          </a:prstGeom>
          <a:ln w="63360">
            <a:solidFill>
              <a:srgbClr val="ffcc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28600" y="5486400"/>
            <a:ext cx="6553080" cy="75204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y nicknamed her Smiley, which was later shortened to Mile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0" y="5257800"/>
            <a:ext cx="1276200" cy="133344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15160" y="2590920"/>
            <a:ext cx="2144520" cy="2819160"/>
          </a:xfrm>
          <a:prstGeom prst="rect">
            <a:avLst/>
          </a:prstGeom>
          <a:ln w="63360">
            <a:solidFill>
              <a:srgbClr val="00ff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52280" y="457200"/>
            <a:ext cx="2733840" cy="1442880"/>
          </a:xfrm>
          <a:prstGeom prst="rect">
            <a:avLst/>
          </a:prstGeom>
          <a:ln w="63360">
            <a:solidFill>
              <a:srgbClr val="00ff00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8229600" cy="60984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ey went to Heritage Middle School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8120" y="533520"/>
            <a:ext cx="4419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ff66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fore The Fam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ff66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2666880"/>
            <a:ext cx="923760" cy="943200"/>
          </a:xfrm>
          <a:prstGeom prst="rect">
            <a:avLst/>
          </a:prstGeom>
          <a:ln w="63360">
            <a:solidFill>
              <a:srgbClr val="00ff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276720" y="2819520"/>
            <a:ext cx="3429000" cy="7520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attended church regular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4114800"/>
            <a:ext cx="3809880" cy="1190520"/>
          </a:xfrm>
          <a:prstGeom prst="rect">
            <a:avLst/>
          </a:prstGeom>
          <a:noFill/>
          <a:ln w="63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ey started taking acting classes when she was nin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5638680"/>
            <a:ext cx="5486400" cy="75204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ey worked at Sparkles Cleaning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28600" y="4038480"/>
            <a:ext cx="1471680" cy="2210040"/>
          </a:xfrm>
          <a:prstGeom prst="rect">
            <a:avLst/>
          </a:prstGeom>
          <a:ln w="63360">
            <a:solidFill>
              <a:srgbClr val="00ccff"/>
            </a:solidFill>
            <a:miter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1920" y="1599840"/>
            <a:ext cx="6172200" cy="7621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ey first appeared on “Doc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0" y="228600"/>
            <a:ext cx="392436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arly Care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128680" cy="1747800"/>
          </a:xfrm>
          <a:prstGeom prst="rect">
            <a:avLst/>
          </a:prstGeom>
          <a:ln w="63360">
            <a:solidFill>
              <a:srgbClr val="ff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2514600" y="3200400"/>
            <a:ext cx="3733920" cy="970920"/>
          </a:xfrm>
          <a:prstGeom prst="rect">
            <a:avLst/>
          </a:prstGeom>
          <a:noFill/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3, Miley wa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g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2514600"/>
            <a:ext cx="1922400" cy="2971800"/>
          </a:xfrm>
          <a:prstGeom prst="rect">
            <a:avLst/>
          </a:prstGeom>
          <a:ln w="63360">
            <a:solidFill>
              <a:srgbClr val="993366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3200400" y="4876920"/>
            <a:ext cx="4952880" cy="1409400"/>
          </a:xfrm>
          <a:prstGeom prst="rect">
            <a:avLst/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ey appeared in “If Heartaches Have Wing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315200" y="3657600"/>
            <a:ext cx="1523880" cy="1143000"/>
          </a:xfrm>
          <a:prstGeom prst="rect">
            <a:avLst/>
          </a:prstGeom>
          <a:ln w="63360">
            <a:solidFill>
              <a:srgbClr val="ff00ff"/>
            </a:solidFill>
            <a:miter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63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ey was chosen to play Miley Stewart/ Hannah Montana in the popular tv show “Hannah Montana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90920" y="380880"/>
            <a:ext cx="3047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ig Brea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124080"/>
            <a:ext cx="5257800" cy="97092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ctober 2006, Miley released her first 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Hannah Montana CD Cover Art"/>
          <p:cNvPicPr/>
          <p:nvPr/>
        </p:nvPicPr>
        <p:blipFill>
          <a:blip r:embed="rId2"/>
          <a:stretch/>
        </p:blipFill>
        <p:spPr>
          <a:xfrm>
            <a:off x="380880" y="2895480"/>
            <a:ext cx="1830600" cy="190512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066680" y="5105520"/>
            <a:ext cx="5562720" cy="1409400"/>
          </a:xfrm>
          <a:prstGeom prst="rect">
            <a:avLst/>
          </a:prstGeom>
          <a:noFill/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7, Miley released the Hannah Montana 2/Meet Miley Cyrus 2 cd 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Hannah Montana - Hannah Montana 2/Meet Miley Cyrus CD Cover Art"/>
          <p:cNvPicPr/>
          <p:nvPr/>
        </p:nvPicPr>
        <p:blipFill>
          <a:blip r:embed="rId3"/>
          <a:stretch/>
        </p:blipFill>
        <p:spPr>
          <a:xfrm>
            <a:off x="6705720" y="4572000"/>
            <a:ext cx="2000160" cy="2000160"/>
          </a:xfrm>
          <a:prstGeom prst="rect">
            <a:avLst/>
          </a:prstGeom>
          <a:ln w="63360">
            <a:solidFill>
              <a:srgbClr val="99cc00"/>
            </a:solidFill>
            <a:miter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provided b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pstarsplus.com/actress_mileycyru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eople.com/people/miley_cy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ortmusic.com/_m/miley-cyrus-biography,l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nswers.com/topic/miley-cyrus#Early_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usatoday.com/life/music/news/2008-01-29-miley-cyrus-qna_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iki.answers.com/Q/Where_did_Miley_Cyrus_take_acting_les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metrolyrics.com/miley-cyrus-biography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aceshowbiz.com/news/view/0001970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cduniverse.com/search/xx/music/pid/7222270/a/Hannah+Montana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1"/>
          <a:stretch/>
        </p:blipFill>
        <p:spPr>
          <a:xfrm>
            <a:off x="3809880" y="5181480"/>
            <a:ext cx="1828800" cy="790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9:47:37Z</dcterms:created>
  <dc:creator>overyem</dc:creator>
  <dc:description/>
  <dc:language>en-US</dc:language>
  <cp:lastModifiedBy>overyem</cp:lastModifiedBy>
  <dcterms:modified xsi:type="dcterms:W3CDTF">2010-02-25T20:25:09Z</dcterms:modified>
  <cp:revision>13</cp:revision>
  <dc:subject/>
  <dc:title>Slide 1</dc:title>
</cp:coreProperties>
</file>